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494-9F40-4587-8E20-7EFC0A09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681-E16E-42BA-930F-6599B167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5E1-3BDA-4CBA-BF46-D49CD8DE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68D-D4C2-49E4-9DE9-EC7853A5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8D35-CED8-4EBE-922F-6C3115AA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4C44-E202-4444-ACA3-4896E086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8B58-ADBA-4E2C-BE84-F1797644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C7CB-9676-43A9-9475-203611A8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5D24-267F-4547-B961-0EF35202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851B-1F26-4023-B865-0C934432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EB03-24E6-4A13-8E08-5CD91C47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C57-CE18-45B2-83E6-0AB70592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76DC-4BF8-4B72-A2D8-A50C2F95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71FE-31E3-4B26-809C-73A1C133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3033-EF34-4AA6-BD81-882B2410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87AD-8E73-479E-B069-2B5D4EC3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8D87-7873-4328-B0CF-83329CC1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F82D1-FA56-439E-9AE5-77CB31F4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26B91-BEC8-4F67-A2E8-9AE94214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622F-AD72-4F60-B6E4-46C1AC5F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B7F7-612E-4B45-9C58-8E589597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885C-FB0B-41C8-96B8-C0BA2D92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5D04-0EED-4F8A-904C-B59E1F49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2135-1DBD-4BE7-9C5C-7D048974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2DD8-D2CD-4CAE-9E3D-AF12BCDC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2210-4787-4752-B85C-1D2B7D5C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A693-96DC-4B3E-8971-86BC2964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C662-0CAD-42F4-B2A3-DDC4C775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8033-A4E7-4F92-A833-27D0F0FA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86E0-8F2B-4B5A-8D3C-B20DFAE4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0F661-68E9-46D8-AA3B-0E7BEBAD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9C7A-25E7-43A4-8B02-A0284A44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A4533-45AC-45E4-BF59-1327F4C2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025-8DD1-43AE-9471-74758C7F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3D36-B817-4C94-B7CF-0345CED8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7325D-B512-44C9-A0B9-CA9638A4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186C-F938-49F7-8413-D0DD5777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1B21-4832-424A-8C2D-08E51712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AF159-0BD8-4FA1-94C7-273445BD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FB3D-C032-4898-918A-E0CD5550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50A52-8513-450B-8B41-E300B39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3C45-A67D-402A-BD44-618C322D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B0F48-0DF8-45D0-B52E-84A49051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91EFA-0AC4-4ABC-9E88-D15D94E4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CC2-7000-4E14-9734-509453BF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11ED1-F067-4579-9CE7-7385E390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EB02D-4913-4EF6-BB4B-2986FED7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344A-6571-4C52-A771-890D6CE6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A9EAA-BBFF-4F62-B962-AF0AF360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0F481-841F-4510-8C19-7DA92D28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B01D7-1C8F-4A3C-9E4F-1AF02628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E5009-343F-40E8-9E2B-DF61AEAF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F5674-93E9-47AD-A9AE-0D4A018C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B42F5-1713-407A-99B5-6B2B8798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5DC9-E9DE-4454-9AAB-F1E9194F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0CF-7197-4D5B-8D8D-D29126E7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2CA17-D12C-441C-831F-6056C9F6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6FEF9-AFCE-4189-B1C2-9520DF05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31946-9220-45AB-A167-F3A94FF4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EC179-5E0B-4EE7-8279-C7935131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EA8A6-BB55-4D9D-B6D6-2768554D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E2AAE-6D74-40B7-82DF-6A39BDA1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C71D5-15FD-47CF-ACE8-ED42FD68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8A056-6152-4AF4-8CAF-4D2EB4C7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E5483-35D1-4023-AB88-C99128EF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26122-ECEA-4F2C-9FA1-CF6F738B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43B-C0AE-4F2A-BB12-3BAB8A19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B26A3-BAD4-49F3-93A0-FB32190E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104D6-3618-44C0-B52A-4E0F311E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24AA8-847C-49DC-B83D-C14A69E7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04E6A-7DB8-4B08-B776-2EB085CA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F0DF3-72FE-4A2C-ACB2-D8CB4D03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21C1A-AA3D-4C63-81A1-AD1D96BF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75339-92B3-42D3-A5D3-12899C76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B1439-B7DA-491C-8493-D8169A74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97786-A2D9-401E-947F-185826C6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72A3A-8829-409E-9177-85B460F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8AA-3B91-446A-985D-1582C64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D51D7-742E-4A32-8071-62A0D738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9F2E-E3CE-44DA-AD30-303026FB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BDB5A-AB42-47B2-8FDA-EB22E8C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9E203-0BD1-4566-9C4E-224AA943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9BFCD-FAAD-432F-8935-B1D3D9B4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51391-D7FD-4CC9-8083-8D4A5A91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14CF7-B703-4D9F-B116-5F4974C8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F3286-B65B-459B-AD5A-7D6E4213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61AA7-6215-48B9-B4A2-FC1FE7D7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CC36A-91B5-475A-BD1E-E099196B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EAA-9616-4AA8-ADA8-98338215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E5B98-7BE9-4DCD-9843-DB10F00C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5D9BB-3BA9-4B24-9FC6-4CD64A9D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16BF1-47C9-4ACA-9744-7C031878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80B7C-246F-45DC-BEA5-242FF2C0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31063-4823-49AE-923D-8A1D1F76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D67D1-936A-4E1B-94C2-408FDC03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22DEA-FAB3-43CA-B277-276DEF27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54F7-1157-4850-8669-4EDEEE6F0B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6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F7E0-C5CA-456C-B8DB-6F0F709D15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8E74-9AC1-4B04-ACCD-5D74805EC8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7E69-2D9A-464F-B7F5-AC45D15E49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B214-24C6-4F23-8639-EAFF7BEE65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E245-B8AF-4CE0-8145-DE135B2438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8F45-6441-409D-B367-8A00BEA015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Прямоугольный треугольник 16" descr=""/>
            <p:cNvPicPr/>
            <p:nvPr/>
          </p:nvPicPr>
          <p:blipFill>
            <a:blip r:embed="rId5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8" descr=""/>
          <p:cNvPicPr/>
          <p:nvPr/>
        </p:nvPicPr>
        <p:blipFill>
          <a:blip r:embed="rId6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4CA9-6598-4535-84CB-F65821DD2B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4360" y="263664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766"/>
                </a:solidFill>
                <a:latin typeface="Century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766"/>
                </a:solidFill>
                <a:latin typeface="Century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5" descr=""/>
          <p:cNvPicPr/>
          <p:nvPr/>
        </p:nvPicPr>
        <p:blipFill>
          <a:blip r:embed="rId1"/>
          <a:stretch/>
        </p:blipFill>
        <p:spPr>
          <a:xfrm>
            <a:off x="682560" y="622440"/>
            <a:ext cx="7772400" cy="944280"/>
          </a:xfrm>
          <a:prstGeom prst="rect">
            <a:avLst/>
          </a:prstGeom>
          <a:ln w="0">
            <a:noFill/>
          </a:ln>
        </p:spPr>
      </p:pic>
      <p:sp>
        <p:nvSpPr>
          <p:cNvPr id="396" name="TextBox 7"/>
          <p:cNvSpPr/>
          <p:nvPr/>
        </p:nvSpPr>
        <p:spPr>
          <a:xfrm>
            <a:off x="971640" y="595476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Учитель:   Прохорова Татья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0" descr="Ins02"/>
          <p:cNvPicPr/>
          <p:nvPr/>
        </p:nvPicPr>
        <p:blipFill>
          <a:blip r:embed="rId1"/>
          <a:stretch/>
        </p:blipFill>
        <p:spPr>
          <a:xfrm flipH="1">
            <a:off x="-360" y="692280"/>
            <a:ext cx="12970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719 -0.02614 C 0.63212 -0.02614 0.80712 0.15009 0.80712 0.36702 C 0.80712 0.58349 0.63212 0.76064 0.41719 0.76064 C 0.20226 0.76064 0.0276 0.58349 0.0276 0.36702 C 0.0276 0.15009 0.20226 -0.02614 0.41719 -0.02614 Z">
                                      <p:cBhvr>
                                        <p:cTn id="168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177 -0.09945 C 0.57726 -0.09945 0.73629 0.09551 0.73629 0.33534 C 0.73629 0.57539 0.57726 0.77127 0.38177 0.77127 C 0.18629 0.77127 0.02761 0.57539 0.02761 0.33534 C 0.02761 0.09551 0.18629 -0.09945 0.38177 -0.09945 Z">
                                      <p:cBhvr>
                                        <p:cTn id="172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719 -0.02614 C 0.5908 -0.02614 0.73247 0.1383 0.73247 0.34065 C 0.73247 0.54325 0.5908 0.70837 0.41719 0.70837 C 0.24341 0.70837 0.10243 0.54325 0.10243 0.34065 C 0.10243 0.1383 0.24341 -0.02614 0.41719 -0.02614 Z">
                                      <p:cBhvr>
                                        <p:cTn id="176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177 -0.09945 C 0.57725 -0.09945 0.73628 0.09343 0.73628 0.33048 C 0.73628 0.56729 0.57725 0.76086 0.38177 0.76086 C 0.18628 0.76086 0.0276 0.56729 0.0276 0.33048 C 0.0276 0.09343 0.18628 -0.09945 0.38177 -0.09945 Z">
                                      <p:cBhvr>
                                        <p:cTn id="180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51 0.3728 C 0.27952 0.28353 0.32952 0.20629 0.39653 0.20097 C 0.46059 0.19426 0.52049 0.25416 0.52448 0.34089 C 0.52952 0.42067 0.4875 0.49537 0.42743 0.50069 C 0.37257 0.50462 0.32049 0.45536 0.3165 0.3809 C 0.3125 0.3129 0.34757 0.24884 0.39844 0.24352 C 0.44549 0.23959 0.48959 0.28099 0.49254 0.34343 C 0.49549 0.3994 0.46754 0.45398 0.42552 0.45675 C 0.3875 0.46068 0.35157 0.42877 0.34844 0.37812 C 0.34653 0.33279 0.36754 0.28885 0.40052 0.28631 C 0.42952 0.28353 0.45851 0.30758 0.46059 0.34621 C 0.4625 0.37951 0.44757 0.41142 0.42344 0.4142 C 0.40348 0.41674 0.38247 0.40217 0.38143 0.37558 C 0.37952 0.35407 0.3875 0.3314 0.40243 0.32886 C 0.41459 0.32886 0.42657 0.33418 0.42848 0.34875 C 0.42952 0.35823 0.42743 0.36748 0.42153 0.37141 C 0.41858 0.3728 0.4165 0.3728 0.41355 0.37141 E">
                                      <p:cBhvr>
                                        <p:cTn id="184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250560" y="1480680"/>
            <a:ext cx="856908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ц школьника весит 500 г. Масса учебников и тетрадей составляет 2 кг 500 г. Какова масса лишних вещей в ранце ученика, если общая масса ранца составила 4 кг 500 г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3"/>
          <p:cNvSpPr/>
          <p:nvPr/>
        </p:nvSpPr>
        <p:spPr>
          <a:xfrm>
            <a:off x="971640" y="836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"/>
              </a:rPr>
              <a:t>4 500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Левая фигурная скобка 4"/>
          <p:cNvSpPr/>
          <p:nvPr/>
        </p:nvSpPr>
        <p:spPr>
          <a:xfrm>
            <a:off x="3203640" y="476280"/>
            <a:ext cx="288720" cy="1584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1584360"/>
              <a:gd name="textAreaBottom" fmla="*/ 15771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472"/>
                </a:lnTo>
                <a:cubicBezTo>
                  <a:pt x="10800" y="10636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8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"/>
          <p:cNvSpPr/>
          <p:nvPr/>
        </p:nvSpPr>
        <p:spPr>
          <a:xfrm>
            <a:off x="3635280" y="549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Ранец – 5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"/>
          <p:cNvSpPr/>
          <p:nvPr/>
        </p:nvSpPr>
        <p:spPr>
          <a:xfrm>
            <a:off x="3635280" y="105264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Учебники и тетради – 2 кг 5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7"/>
          <p:cNvSpPr/>
          <p:nvPr/>
        </p:nvSpPr>
        <p:spPr>
          <a:xfrm>
            <a:off x="3635280" y="162864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Лишние вещи -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1836720" y="414972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"/>
              </a:rPr>
              <a:t>1 500 г  = 1 кг 500 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4"/>
          <p:cNvSpPr/>
          <p:nvPr/>
        </p:nvSpPr>
        <p:spPr>
          <a:xfrm>
            <a:off x="1692360" y="2276640"/>
            <a:ext cx="51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c0408"/>
                </a:solidFill>
                <a:latin typeface="Times New Roman"/>
                <a:ea typeface="Times New Roman"/>
              </a:rPr>
              <a:t>Те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6836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48 700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408 700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48 070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4 870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23760" y="542880"/>
            <a:ext cx="87962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94920" y="2708280"/>
            <a:ext cx="8497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4160" indent="-254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а) 67 490, 67 940, 67 094, 67 049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254160" indent="-254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б) 64 079, 67 094, 67 049, 64 094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254160" indent="-254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в) 69 074, 69 407, 69 047, 69 704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254160" indent="-254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г) 69 047, 69 407, 69 704, 69 740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176040" y="847800"/>
            <a:ext cx="8510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тен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есятков тысяч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есятков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единиц тысяч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01600" y="182520"/>
            <a:ext cx="84852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400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400 000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40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40 000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249120" y="414360"/>
            <a:ext cx="87235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59 999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5 999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59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159 000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37960" y="139680"/>
            <a:ext cx="8448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4 090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1 390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4 360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14 690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249120" y="341280"/>
            <a:ext cx="86457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3"/>
          <p:cNvSpPr/>
          <p:nvPr/>
        </p:nvSpPr>
        <p:spPr>
          <a:xfrm>
            <a:off x="4284720" y="3573360"/>
            <a:ext cx="46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ло солнышко дав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януло к нам в ок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 торопи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у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5"/>
          <p:cNvSpPr/>
          <p:nvPr/>
        </p:nvSpPr>
        <p:spPr>
          <a:xfrm>
            <a:off x="539640" y="189000"/>
            <a:ext cx="4030920" cy="403200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3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6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2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84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8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913140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7 934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70 934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709 340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79 340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6480" y="274680"/>
            <a:ext cx="8955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1" lang="ru-RU" sz="5400" spc="-1" strike="noStrike">
                <a:solidFill>
                  <a:srgbClr val="eb641b"/>
                </a:solidFill>
                <a:latin typeface="Times New Roman"/>
                <a:ea typeface="Times New Roman"/>
              </a:rPr>
              <a:t>58 000 </a:t>
            </a:r>
            <a:r>
              <a:rPr b="1" lang="en-US" sz="5400" spc="-1" strike="noStrike">
                <a:solidFill>
                  <a:srgbClr val="eb641b"/>
                </a:solidFill>
                <a:latin typeface="Times New Roman"/>
                <a:ea typeface="Times New Roman"/>
              </a:rPr>
              <a:t>&lt;</a:t>
            </a:r>
            <a:r>
              <a:rPr b="1" lang="ru-RU" sz="5400" spc="-1" strike="noStrike">
                <a:solidFill>
                  <a:srgbClr val="eb641b"/>
                </a:solidFill>
                <a:latin typeface="Times New Roman"/>
                <a:ea typeface="Times New Roman"/>
              </a:rPr>
              <a:t> 5_ 000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0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8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9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133200" y="212760"/>
            <a:ext cx="87616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4 *** __ 4 44*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30240" y="139680"/>
            <a:ext cx="88646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1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в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г 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г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а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а</a:t>
            </a:r>
            <a:r>
              <a:rPr b="1" lang="ru-RU" sz="4800" spc="-1" strike="noStrike">
                <a:solidFill>
                  <a:srgbClr val="c00000"/>
                </a:solidFill>
                <a:latin typeface="Lucida Sans Unicode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6. а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7. б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8. г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9. г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10. а 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68360" y="2205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ок нет – </a:t>
            </a:r>
            <a:r>
              <a:rPr b="1" lang="ru-RU" sz="4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«5»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2 ошибки – </a:t>
            </a:r>
            <a:r>
              <a:rPr b="1" lang="ru-RU" sz="4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«4»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4 ошибки – </a:t>
            </a:r>
            <a:r>
              <a:rPr b="1" lang="ru-RU" sz="4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«3»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ошибок и более – </a:t>
            </a:r>
            <a:r>
              <a:rPr b="1" lang="ru-RU" sz="4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«2»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469800" y="622440"/>
            <a:ext cx="8070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68360" y="836280"/>
            <a:ext cx="8300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повторение  знаний о многозначных числах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умение читать и  записывать  многозначные числа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ть классы и разряды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задачи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соблюдать  правила сохранения здоровь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ая соединительная линия 4"/>
          <p:cNvSpPr/>
          <p:nvPr/>
        </p:nvSpPr>
        <p:spPr>
          <a:xfrm flipV="1">
            <a:off x="2124000" y="3933360"/>
            <a:ext cx="4896000" cy="71640"/>
          </a:xfrm>
          <a:prstGeom prst="line">
            <a:avLst/>
          </a:prstGeom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7"/>
          <p:cNvSpPr/>
          <p:nvPr/>
        </p:nvSpPr>
        <p:spPr>
          <a:xfrm flipH="1" flipV="1">
            <a:off x="2138040" y="1699920"/>
            <a:ext cx="73080" cy="230508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8"/>
          <p:cNvSpPr/>
          <p:nvPr/>
        </p:nvSpPr>
        <p:spPr>
          <a:xfrm flipH="1" flipV="1">
            <a:off x="6875640" y="1628280"/>
            <a:ext cx="72720" cy="230508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9"/>
          <p:cNvSpPr/>
          <p:nvPr/>
        </p:nvSpPr>
        <p:spPr>
          <a:xfrm flipH="1" flipV="1">
            <a:off x="4427280" y="1699920"/>
            <a:ext cx="73080" cy="230508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0"/>
          <p:cNvSpPr/>
          <p:nvPr/>
        </p:nvSpPr>
        <p:spPr>
          <a:xfrm>
            <a:off x="1706400" y="436572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entury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6516720" y="43005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entury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4211640" y="433404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entury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396720" y="40176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00" name="Арка 12"/>
          <p:cNvSpPr/>
          <p:nvPr/>
        </p:nvSpPr>
        <p:spPr>
          <a:xfrm rot="10800000">
            <a:off x="4571640" y="1196640"/>
            <a:ext cx="1368360" cy="360360"/>
          </a:xfrm>
          <a:custGeom>
            <a:avLst/>
            <a:gdLst/>
            <a:ahLst/>
            <a:rect l="l" t="t" r="r" b="b"/>
            <a:pathLst>
              <a:path w="1368425" h="360363">
                <a:moveTo>
                  <a:pt x="1329" y="168958"/>
                </a:moveTo>
                <a:cubicBezTo>
                  <a:pt x="23871" y="73839"/>
                  <a:pt x="323792" y="-207"/>
                  <a:pt x="685694" y="0"/>
                </a:cubicBezTo>
                <a:cubicBezTo>
                  <a:pt x="1062995" y="215"/>
                  <a:pt x="1368426" y="80822"/>
                  <a:pt x="1368426" y="180182"/>
                </a:cubicBezTo>
                <a:lnTo>
                  <a:pt x="1278334" y="180182"/>
                </a:lnTo>
                <a:cubicBezTo>
                  <a:pt x="1278334" y="130470"/>
                  <a:pt x="1012787" y="90153"/>
                  <a:pt x="684952" y="90091"/>
                </a:cubicBezTo>
                <a:cubicBezTo>
                  <a:pt x="381323" y="90034"/>
                  <a:pt x="126266" y="124701"/>
                  <a:pt x="93549" y="170474"/>
                </a:cubicBezTo>
                <a:lnTo>
                  <a:pt x="1329" y="168958"/>
                </a:lnTo>
                <a:close/>
              </a:path>
            </a:pathLst>
          </a:custGeom>
          <a:solidFill>
            <a:srgbClr val="c00000"/>
          </a:solidFill>
          <a:ln w="55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Арка 13"/>
          <p:cNvSpPr/>
          <p:nvPr/>
        </p:nvSpPr>
        <p:spPr>
          <a:xfrm rot="10800000">
            <a:off x="3131640" y="1267920"/>
            <a:ext cx="1289160" cy="289080"/>
          </a:xfrm>
          <a:custGeom>
            <a:avLst/>
            <a:gdLst/>
            <a:ahLst/>
            <a:rect l="l" t="t" r="r" b="b"/>
            <a:pathLst>
              <a:path w="1289050" h="288925">
                <a:moveTo>
                  <a:pt x="0" y="144463"/>
                </a:moveTo>
                <a:cubicBezTo>
                  <a:pt x="0" y="64678"/>
                  <a:pt x="288564" y="0"/>
                  <a:pt x="644525" y="0"/>
                </a:cubicBezTo>
                <a:cubicBezTo>
                  <a:pt x="1000486" y="0"/>
                  <a:pt x="1289050" y="64678"/>
                  <a:pt x="1289050" y="144463"/>
                </a:cubicBezTo>
                <a:lnTo>
                  <a:pt x="1216819" y="144463"/>
                </a:lnTo>
                <a:cubicBezTo>
                  <a:pt x="1216819" y="104571"/>
                  <a:pt x="960594" y="72232"/>
                  <a:pt x="644525" y="72232"/>
                </a:cubicBezTo>
                <a:cubicBezTo>
                  <a:pt x="328456" y="72232"/>
                  <a:pt x="72231" y="104571"/>
                  <a:pt x="72231" y="144463"/>
                </a:cubicBezTo>
                <a:lnTo>
                  <a:pt x="0" y="144463"/>
                </a:lnTo>
                <a:close/>
              </a:path>
            </a:pathLst>
          </a:custGeom>
          <a:solidFill>
            <a:srgbClr val="c00000"/>
          </a:solidFill>
          <a:ln w="55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4"/>
          <p:cNvSpPr/>
          <p:nvPr/>
        </p:nvSpPr>
        <p:spPr>
          <a:xfrm>
            <a:off x="1619280" y="234000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Century"/>
              </a:rPr>
              <a:t>24 10 20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Арка 15"/>
          <p:cNvSpPr/>
          <p:nvPr/>
        </p:nvSpPr>
        <p:spPr>
          <a:xfrm rot="10800000">
            <a:off x="2123640" y="3213000"/>
            <a:ext cx="1368360" cy="287280"/>
          </a:xfrm>
          <a:custGeom>
            <a:avLst/>
            <a:gdLst/>
            <a:ahLst/>
            <a:rect l="l" t="t" r="r" b="b"/>
            <a:pathLst>
              <a:path w="1368425" h="287338">
                <a:moveTo>
                  <a:pt x="2086" y="132458"/>
                </a:moveTo>
                <a:cubicBezTo>
                  <a:pt x="29992" y="57593"/>
                  <a:pt x="327766" y="-130"/>
                  <a:pt x="685393" y="0"/>
                </a:cubicBezTo>
                <a:cubicBezTo>
                  <a:pt x="1062812" y="137"/>
                  <a:pt x="1368425" y="64419"/>
                  <a:pt x="1368425" y="143669"/>
                </a:cubicBezTo>
                <a:lnTo>
                  <a:pt x="1296591" y="143669"/>
                </a:lnTo>
                <a:cubicBezTo>
                  <a:pt x="1296591" y="104023"/>
                  <a:pt x="1022780" y="71872"/>
                  <a:pt x="684803" y="71834"/>
                </a:cubicBezTo>
                <a:cubicBezTo>
                  <a:pt x="379201" y="71799"/>
                  <a:pt x="120160" y="98200"/>
                  <a:pt x="77758" y="133702"/>
                </a:cubicBezTo>
                <a:lnTo>
                  <a:pt x="2086" y="132458"/>
                </a:lnTo>
                <a:close/>
              </a:path>
            </a:pathLst>
          </a:custGeom>
          <a:solidFill>
            <a:srgbClr val="6e2470"/>
          </a:solidFill>
          <a:ln w="55080">
            <a:solidFill>
              <a:srgbClr val="6e24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Арка 16"/>
          <p:cNvSpPr/>
          <p:nvPr/>
        </p:nvSpPr>
        <p:spPr>
          <a:xfrm rot="10800000">
            <a:off x="5219280" y="3213000"/>
            <a:ext cx="1368360" cy="287280"/>
          </a:xfrm>
          <a:custGeom>
            <a:avLst/>
            <a:gdLst/>
            <a:ahLst/>
            <a:rect l="l" t="t" r="r" b="b"/>
            <a:pathLst>
              <a:path w="1368425" h="287338">
                <a:moveTo>
                  <a:pt x="2086" y="132458"/>
                </a:moveTo>
                <a:cubicBezTo>
                  <a:pt x="29992" y="57593"/>
                  <a:pt x="327766" y="-130"/>
                  <a:pt x="685393" y="0"/>
                </a:cubicBezTo>
                <a:cubicBezTo>
                  <a:pt x="1062812" y="137"/>
                  <a:pt x="1368425" y="64419"/>
                  <a:pt x="1368425" y="143669"/>
                </a:cubicBezTo>
                <a:lnTo>
                  <a:pt x="1296591" y="143669"/>
                </a:lnTo>
                <a:cubicBezTo>
                  <a:pt x="1296591" y="104023"/>
                  <a:pt x="1022780" y="71872"/>
                  <a:pt x="684803" y="71834"/>
                </a:cubicBezTo>
                <a:cubicBezTo>
                  <a:pt x="379201" y="71799"/>
                  <a:pt x="120160" y="98200"/>
                  <a:pt x="77758" y="133702"/>
                </a:cubicBezTo>
                <a:lnTo>
                  <a:pt x="2086" y="132458"/>
                </a:lnTo>
                <a:close/>
              </a:path>
            </a:pathLst>
          </a:custGeom>
          <a:solidFill>
            <a:srgbClr val="6e2470"/>
          </a:solidFill>
          <a:ln w="55080">
            <a:solidFill>
              <a:srgbClr val="6e24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Арка 18"/>
          <p:cNvSpPr/>
          <p:nvPr/>
        </p:nvSpPr>
        <p:spPr>
          <a:xfrm rot="10800000">
            <a:off x="3634920" y="3213000"/>
            <a:ext cx="1368360" cy="287280"/>
          </a:xfrm>
          <a:custGeom>
            <a:avLst/>
            <a:gdLst/>
            <a:ahLst/>
            <a:rect l="l" t="t" r="r" b="b"/>
            <a:pathLst>
              <a:path w="1368425" h="287338">
                <a:moveTo>
                  <a:pt x="2086" y="132458"/>
                </a:moveTo>
                <a:cubicBezTo>
                  <a:pt x="29992" y="57593"/>
                  <a:pt x="327766" y="-130"/>
                  <a:pt x="685393" y="0"/>
                </a:cubicBezTo>
                <a:cubicBezTo>
                  <a:pt x="1062812" y="137"/>
                  <a:pt x="1368425" y="64419"/>
                  <a:pt x="1368425" y="143669"/>
                </a:cubicBezTo>
                <a:lnTo>
                  <a:pt x="1296591" y="143669"/>
                </a:lnTo>
                <a:cubicBezTo>
                  <a:pt x="1296591" y="104023"/>
                  <a:pt x="1022780" y="71872"/>
                  <a:pt x="684803" y="71834"/>
                </a:cubicBezTo>
                <a:cubicBezTo>
                  <a:pt x="379201" y="71799"/>
                  <a:pt x="120160" y="98200"/>
                  <a:pt x="77758" y="133702"/>
                </a:cubicBezTo>
                <a:lnTo>
                  <a:pt x="2086" y="132458"/>
                </a:lnTo>
                <a:close/>
              </a:path>
            </a:pathLst>
          </a:custGeom>
          <a:solidFill>
            <a:srgbClr val="6e2470"/>
          </a:solidFill>
          <a:ln w="55080">
            <a:solidFill>
              <a:srgbClr val="6e24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9"/>
          <p:cNvSpPr/>
          <p:nvPr/>
        </p:nvSpPr>
        <p:spPr>
          <a:xfrm>
            <a:off x="684360" y="4743360"/>
            <a:ext cx="81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"/>
              </a:rPr>
              <a:t>241 012     24 102 0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оловина рамки 20"/>
          <p:cNvSpPr/>
          <p:nvPr/>
        </p:nvSpPr>
        <p:spPr>
          <a:xfrm rot="18833400">
            <a:off x="3898800" y="5006880"/>
            <a:ext cx="625320" cy="612720"/>
          </a:xfrm>
          <a:custGeom>
            <a:avLst/>
            <a:gdLst/>
            <a:ahLst/>
            <a:rect l="l" t="t" r="r" b="b"/>
            <a:pathLst>
              <a:path w="625475" h="612775">
                <a:moveTo>
                  <a:pt x="0" y="0"/>
                </a:moveTo>
                <a:lnTo>
                  <a:pt x="625475" y="0"/>
                </a:lnTo>
                <a:lnTo>
                  <a:pt x="416985" y="204256"/>
                </a:lnTo>
                <a:lnTo>
                  <a:pt x="204256" y="204256"/>
                </a:lnTo>
                <a:lnTo>
                  <a:pt x="204256" y="412666"/>
                </a:lnTo>
                <a:lnTo>
                  <a:pt x="0" y="612775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55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2"/>
          <p:cNvSpPr/>
          <p:nvPr/>
        </p:nvSpPr>
        <p:spPr>
          <a:xfrm>
            <a:off x="0" y="549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b641b"/>
                </a:solidFill>
                <a:latin typeface="Century"/>
              </a:rPr>
              <a:t>241 0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3"/>
          <p:cNvSpPr/>
          <p:nvPr/>
        </p:nvSpPr>
        <p:spPr>
          <a:xfrm>
            <a:off x="6227640" y="5493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b641b"/>
                </a:solidFill>
                <a:latin typeface="Century"/>
              </a:rPr>
              <a:t> </a:t>
            </a:r>
            <a:r>
              <a:rPr b="1" lang="ru-RU" sz="5400" spc="-1" strike="noStrike">
                <a:solidFill>
                  <a:srgbClr val="eb641b"/>
                </a:solidFill>
                <a:latin typeface="Century"/>
              </a:rPr>
              <a:t>241 0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4"/>
          <p:cNvSpPr/>
          <p:nvPr/>
        </p:nvSpPr>
        <p:spPr>
          <a:xfrm>
            <a:off x="250920" y="371628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"/>
              </a:rPr>
              <a:t>24 102 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6"/>
          <p:cNvSpPr/>
          <p:nvPr/>
        </p:nvSpPr>
        <p:spPr>
          <a:xfrm>
            <a:off x="5580000" y="3716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"/>
              </a:rPr>
              <a:t>24 102 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Documents and Settings\Андрей\Рабочий стол\ctvbyfh\0_a4fca_e07b54e1_XL.png"/>
          <p:cNvPicPr/>
          <p:nvPr/>
        </p:nvPicPr>
        <p:blipFill>
          <a:blip r:embed="rId1"/>
          <a:stretch/>
        </p:blipFill>
        <p:spPr>
          <a:xfrm>
            <a:off x="250920" y="692280"/>
            <a:ext cx="3373200" cy="59767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4211640" y="4437000"/>
            <a:ext cx="49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</a:t>
            </a:r>
            <a:r>
              <a:rPr b="1" lang="he-IL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׃ </a:t>
            </a:r>
            <a:r>
              <a:rPr b="1" lang="he-IL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he-IL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 </a:t>
            </a:r>
            <a:r>
              <a:rPr b="1" lang="he-IL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r>
              <a:rPr b="1" lang="he-IL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</a:t>
            </a:r>
            <a:r>
              <a:rPr b="1" lang="he-IL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чел.) – помыли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 + 7 = 15 (чел.) –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 – 9 = 6 (че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7"/>
          <p:cNvSpPr/>
          <p:nvPr/>
        </p:nvSpPr>
        <p:spPr>
          <a:xfrm>
            <a:off x="3851280" y="549360"/>
            <a:ext cx="511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 4 «Б» классе 8 мальчиков и 7 девочек. Перед столовой 5 девочек и половина мальчиков помыли руки с мылом, а остальные забыли. Сколько детей не помыли ру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C:\Documents and Settings\Андрей\Рабочий стол\ctvbyfh\znayka.png"/>
          <p:cNvPicPr/>
          <p:nvPr/>
        </p:nvPicPr>
        <p:blipFill>
          <a:blip r:embed="rId1"/>
          <a:stretch/>
        </p:blipFill>
        <p:spPr>
          <a:xfrm>
            <a:off x="3286080" y="907920"/>
            <a:ext cx="3352680" cy="5332680"/>
          </a:xfrm>
          <a:prstGeom prst="rect">
            <a:avLst/>
          </a:prstGeom>
          <a:ln w="0">
            <a:noFill/>
          </a:ln>
        </p:spPr>
      </p:pic>
      <p:sp>
        <p:nvSpPr>
          <p:cNvPr id="416" name="TextBox 5"/>
          <p:cNvSpPr/>
          <p:nvPr/>
        </p:nvSpPr>
        <p:spPr>
          <a:xfrm>
            <a:off x="250920" y="333360"/>
            <a:ext cx="324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лыбке участвуют 18 лицевых мышц, а для гримасы неудовольствия приходиться напрягать на 25 мышц больше. Какое количество мышц мы используем для выражения своего плохого настро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6516720" y="22050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entury"/>
              </a:rPr>
              <a:t>25 + 18 = 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" descr="C:\Documents and Settings\Андрей\Рабочий стол\ctvbyfh\neznaika07.png"/>
          <p:cNvPicPr/>
          <p:nvPr/>
        </p:nvPicPr>
        <p:blipFill>
          <a:blip r:embed="rId1"/>
          <a:stretch/>
        </p:blipFill>
        <p:spPr>
          <a:xfrm>
            <a:off x="6622920" y="2033640"/>
            <a:ext cx="2521080" cy="4824360"/>
          </a:xfrm>
          <a:prstGeom prst="rect">
            <a:avLst/>
          </a:prstGeom>
          <a:ln w="0">
            <a:noFill/>
          </a:ln>
        </p:spPr>
      </p:pic>
      <p:sp>
        <p:nvSpPr>
          <p:cNvPr id="419" name="Скругленная прямоугольная выноска 5"/>
          <p:cNvSpPr/>
          <p:nvPr/>
        </p:nvSpPr>
        <p:spPr>
          <a:xfrm>
            <a:off x="324000" y="2349360"/>
            <a:ext cx="6408720" cy="2808360"/>
          </a:xfrm>
          <a:prstGeom prst="wedgeRoundRectCallout">
            <a:avLst>
              <a:gd name="adj1" fmla="val 48694"/>
              <a:gd name="adj2" fmla="val 18287"/>
              <a:gd name="adj3" fmla="val 16667"/>
            </a:avLst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eb1"/>
                </a:solidFill>
                <a:latin typeface="Times New Roman"/>
                <a:ea typeface="Times New Roman"/>
              </a:rPr>
              <a:t>Врач дал больной 3 таблетки и велел принимать их через каждые полчаса. Больная строго выполнила указания врача. На сколько времени хватило прописанных врачом таблет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3578400" y="378000"/>
            <a:ext cx="17319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250560" y="148104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Цель -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 знаний о многозначных числ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и -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ум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и  записывать  многозначные числа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ть классы и разряды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задачи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соблюдать  правила сохранения здоровь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755640" y="1700280"/>
            <a:ext cx="18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entury"/>
              </a:rPr>
              <a:t>79 6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entury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entury"/>
              </a:rPr>
              <a:t>23 4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2411280" y="1844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"/>
              </a:rPr>
              <a:t>= 70 000 + 9 000 + 600 + 10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5"/>
          <p:cNvSpPr/>
          <p:nvPr/>
        </p:nvSpPr>
        <p:spPr>
          <a:xfrm>
            <a:off x="2411280" y="299736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= </a:t>
            </a:r>
            <a:r>
              <a:rPr b="1" lang="ru-RU" sz="3200" spc="-1" strike="noStrike">
                <a:solidFill>
                  <a:srgbClr val="008000"/>
                </a:solidFill>
                <a:latin typeface="Century"/>
              </a:rPr>
              <a:t>20 000 + 3 000 + 400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189000" y="2560680"/>
            <a:ext cx="8583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04:56:53Z</dcterms:created>
  <dc:creator>Пользователь</dc:creator>
  <dc:description/>
  <dc:language>en-US</dc:language>
  <cp:lastModifiedBy>Тимошенкова</cp:lastModifiedBy>
  <dcterms:modified xsi:type="dcterms:W3CDTF">2013-02-06T09:32:09Z</dcterms:modified>
  <cp:revision>59</cp:revision>
  <dc:subject/>
  <dc:title>Числа больше 1 000 Нумерация</dc:title>
</cp:coreProperties>
</file>